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A3C-1D12-47C3-A6CD-88BF7191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DDF-DB56-4E2E-9211-DB39D9CC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8CC-E3C8-4789-A132-C189FBC7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35F-0809-42C0-A8EB-5A5DF3FC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5B75-0030-4B0C-90C3-9B7B2356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91F7-4E58-4BB0-B80A-1B5BF46C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434-295B-4AAD-9CD6-15684C53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3B6-AD90-4EBC-8DBE-C756E0F3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FEC8-4646-49CA-BD59-CA4E160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E53-3992-405A-BB9D-CEEE551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8379-EA39-4A5D-AD69-41DF95C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80C-EF95-4452-B284-A16BFB33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6DEE-F1A2-44D1-B959-A7EC212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C11-96AA-40A6-B4F9-DA0C4C4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ADF8-012E-4310-80BE-327C36C2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5D8A-A00C-4DC6-9918-FE88AEDD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5996-041B-4D48-844C-6E9CC997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5A0-1F83-48DA-8989-7980807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2AA-079B-4131-9A97-B4294ABE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27B-0258-4D45-B029-5FD0D3BF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2D6-1459-4B9A-A697-8358E0E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E36-8D42-4DEA-8952-1686144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19C-AA19-43D6-B1C0-09058A7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D9B-C0FA-4E61-B35C-BC48606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02C-C354-4669-8D69-231889CE86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82BD-CADA-4D9D-8DDB-5891BB9695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2880" y="1971360"/>
            <a:ext cx="6400800" cy="36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dia educational and technological innovations used in education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27016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math aids help the students gather the basic knowledge about the counting, primary shapes, reading the time from a clock and other similar tasks that are extremely useful and required in our everyday liv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SMART Board 600i Interactive Whiteboard System photo."/>
          <p:cNvPicPr/>
          <p:nvPr/>
        </p:nvPicPr>
        <p:blipFill>
          <a:blip r:embed="rId1"/>
          <a:stretch/>
        </p:blipFill>
        <p:spPr>
          <a:xfrm>
            <a:off x="4419720" y="190512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512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eriment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2422440"/>
            <a:ext cx="381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xperiment aids are designed with the primary intention of making the whole learning process a fun and pleasurable experience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elps the students enjoy their studies and not consider it as a burden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512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ducational a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38320" cy="383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1965240"/>
            <a:ext cx="426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ducational aids help the students learning about new things and increasing their basket of knowledge but in an interesting and innovative way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ducational comes on various topics and subjects and when used, these educational aids facilitate a detailed understanding of the topic without having to go through a pile of books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512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Lab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1762200"/>
            <a:ext cx="3952800" cy="4105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2313000"/>
            <a:ext cx="419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lab aid used in the different science labs of schools, colleges, institutions and even hospitals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science lab aids comprise of all the basic scientific measuring and testing instruments required to carry on the necessary tests and research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ographical Apparat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156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182880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graphical Apparatus help in providing the basic geographical knowledge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geographical apparatus such as the globe and others help impart knowledge such as the location of various countries on the planet, the planetary position and other such relevant informatio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8:50:51Z</dcterms:created>
  <dc:creator>FF</dc:creator>
  <dc:description/>
  <dc:language>en-US</dc:language>
  <cp:lastModifiedBy>FF</cp:lastModifiedBy>
  <dcterms:modified xsi:type="dcterms:W3CDTF">2010-01-18T19:42:56Z</dcterms:modified>
  <cp:revision>2</cp:revision>
  <dc:subject/>
  <dc:title> media educational and technological innovations used in edu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